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gif" ContentType="image/gif"/>
  <Override PartName="/ppt/media/image4.wmf" ContentType="image/x-wmf"/>
  <Override PartName="/ppt/media/image10.png" ContentType="image/png"/>
  <Override PartName="/ppt/media/image13.wmf" ContentType="image/x-wmf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media/chimes.wav" ContentType="audio/x-wav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9DB6-3352-4E20-975D-CBB18981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FA2-3D56-43D2-8014-830F237A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7A1-2635-4CDA-AE8B-19C96588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DCA-F8B8-4B4C-8CED-433E11FE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3E3-6733-4629-A733-9411F75C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136-E843-4E38-8320-1984B09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134-4902-40FB-AE21-B340407B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0920-DB5B-4D91-A46F-E4D11B7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78D-07F4-4DAB-B575-671F45C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E26D-E6AD-4035-BF18-69CD588C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7FA3-8C4A-4B39-8E0A-8D79A242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6DA-0AFF-42D7-853C-FBD94F13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3E96-6752-49B6-8AE3-5E8254125E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153280" y="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839880"/>
            <a:ext cx="49528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楷体_GB2312"/>
              </a:rPr>
              <a:t>第二十三章  旋转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3346920" y="281952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23.1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　图形的旋转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44956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125892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-3.33333E-006 3.33333E-006 L -1 3.33333E-006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743200" y="838080"/>
            <a:ext cx="345600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1905120"/>
            <a:ext cx="52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及其旋转中心、旋转角的概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的对应点及其它们的应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943000" y="26668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至此，请使用本课时自主学习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5800" y="380880"/>
            <a:ext cx="3289320" cy="1067040"/>
            <a:chOff x="685800" y="380880"/>
            <a:chExt cx="3289320" cy="10670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685800" y="3808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PC"/>
            <p:cNvSpPr/>
            <p:nvPr/>
          </p:nvSpPr>
          <p:spPr>
            <a:xfrm>
              <a:off x="1752480" y="457200"/>
              <a:ext cx="2222640" cy="9000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练一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486400" y="457200"/>
            <a:ext cx="26827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6400800" cy="1708200"/>
            <a:chOff x="0" y="0"/>
            <a:chExt cx="6400800" cy="1708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372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3048120" y="457200"/>
              <a:ext cx="33526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学习目标</a:t>
              </a:r>
              <a:endPara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066680" y="2133720"/>
            <a:ext cx="73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通过观察具体实例认识旋转，探索它的基本性质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了解图形旋转的特征，并能根据这些特征绘制旋转后的几何图形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090680" y="38196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自学指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219320"/>
            <a:ext cx="78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动手操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在硬纸板上挖下一个三角形的洞，再挖一个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作为旋转中心，把挖好的硬纸板放在黑板上，先在黑板上描出这个挖掉的三角形图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△ABC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然后围绕旋转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转动硬纸板，在黑板上再描出这个挖掉的三角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△A′B′C′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移去硬纸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组讨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图回答下面问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组推荐一人上台说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A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B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C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∠AOA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OB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C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△A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形状和大小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184284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46483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O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A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B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C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也就是对应点到旋转中心距离相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∠AOA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OB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C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我们把这三个相等的角，即对应点与旋转中心所连线段的夹角称为旋转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△AB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形状相同且大小相等，即全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612720" y="117360"/>
            <a:ext cx="6168600" cy="873000"/>
            <a:chOff x="612720" y="117360"/>
            <a:chExt cx="6168600" cy="873000"/>
          </a:xfrm>
        </p:grpSpPr>
        <p:sp>
          <p:nvSpPr>
            <p:cNvPr id="58" name=""/>
            <p:cNvSpPr txBox="1"/>
            <p:nvPr/>
          </p:nvSpPr>
          <p:spPr>
            <a:xfrm>
              <a:off x="612720" y="306000"/>
              <a:ext cx="1905120" cy="6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07932" dir="18900000" blurRad="0" rotWithShape="0">
                      <a:srgbClr val="000099"/>
                    </a:outerShdw>
                  </a:effectLst>
                  <a:latin typeface="宋体"/>
                </a:rPr>
                <a:t>知识归纳</a:t>
              </a:r>
              <a:endPara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863440" y="117000"/>
              <a:ext cx="3917880" cy="78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2768400" y="1828800"/>
            <a:ext cx="4552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归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点到旋转中心的距离相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应点与旋转中心所连线段的夹角等于旋转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前、后的图形全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114300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图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BQ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此图能否旋转某一部分得到一个正方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若能，指出由哪一部分旋转而得到的？并说明理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旋转角多大？并指出它们的对应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6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跟踪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34120" y="3200400"/>
            <a:ext cx="2236680" cy="2730240"/>
            <a:chOff x="5334120" y="3200400"/>
            <a:chExt cx="2236680" cy="2730240"/>
          </a:xfrm>
        </p:grpSpPr>
        <p:sp>
          <p:nvSpPr>
            <p:cNvPr id="66" name=""/>
            <p:cNvSpPr/>
            <p:nvPr/>
          </p:nvSpPr>
          <p:spPr>
            <a:xfrm flipH="1" flipV="1">
              <a:off x="5638320" y="4952520"/>
              <a:ext cx="1600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5334120" y="3200400"/>
              <a:ext cx="2236680" cy="2730240"/>
              <a:chOff x="5334120" y="3200400"/>
              <a:chExt cx="2236680" cy="27302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5638320" y="3428640"/>
                <a:ext cx="1524600" cy="2149920"/>
                <a:chOff x="5638320" y="3428640"/>
                <a:chExt cx="1524600" cy="21499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7162920" y="3428640"/>
                  <a:ext cx="0" cy="152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>
                  <a:off x="5638680" y="3428640"/>
                  <a:ext cx="152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7880000">
                  <a:off x="6033240" y="4273920"/>
                  <a:ext cx="732960" cy="1334880"/>
                </a:xfrm>
                <a:prstGeom prst="rtTriangl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638680" y="3428640"/>
                  <a:ext cx="68580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flipH="1">
                  <a:off x="5638320" y="3809160"/>
                  <a:ext cx="685800" cy="114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5334120" y="3200400"/>
                <a:ext cx="30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34120" y="4799520"/>
                <a:ext cx="30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37160" y="3711240"/>
                <a:ext cx="30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61200" y="3200400"/>
                <a:ext cx="309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238880" y="4799520"/>
                <a:ext cx="16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53080" y="5562360"/>
                <a:ext cx="398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609480" y="3352680"/>
            <a:ext cx="49752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①能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C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旋转得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理由：连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易证四边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正方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证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P≌△CBQ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知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C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绕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旋转与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重合，从而得到正方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0°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应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应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76720" y="30420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学检测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1162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60000" y="1066680"/>
            <a:ext cx="606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列物体的运动不是旋转的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坐在摩天轮里的小朋友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在走动的时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骑自行车的人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正在转动的风车叶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133720"/>
            <a:ext cx="724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列现象中属于旋转的有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地下水位逐年下降；传送带的移动；方向盘的转动；水龙头的转动；钟摆的运动；荡秋千运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114300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784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95280" y="4572000"/>
            <a:ext cx="17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AOD(∠BO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11520" y="4191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4572000"/>
            <a:ext cx="3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9528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48769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35160" y="5257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8320" y="52578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53341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59040" y="53341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85640" y="5715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57150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56880" y="5715000"/>
            <a:ext cx="5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∠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3429000"/>
            <a:ext cx="8713800" cy="3048120"/>
            <a:chOff x="380880" y="3429000"/>
            <a:chExt cx="8713800" cy="30481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6553080" y="5029200"/>
              <a:ext cx="254160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380880" y="3429000"/>
              <a:ext cx="6326280" cy="2666880"/>
              <a:chOff x="380880" y="3429000"/>
              <a:chExt cx="6326280" cy="2666880"/>
            </a:xfrm>
          </p:grpSpPr>
          <p:sp>
            <p:nvSpPr>
              <p:cNvPr id="105" name=""/>
              <p:cNvSpPr/>
              <p:nvPr/>
            </p:nvSpPr>
            <p:spPr>
              <a:xfrm>
                <a:off x="380880" y="3429000"/>
                <a:ext cx="632628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如图，如果把钟表的指针看成四边形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AO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，它绕着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点旋转到四边形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DOEF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位置，在这个旋转过程中：旋转中心是     ，旋转角是                  ，经过旋转，点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转到     ，点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转到    ，点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转到    ，线段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OA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O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B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A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分别转到      、  、  、  ，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、∠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分别与      、    、      是对应角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447920" y="495288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410080" y="45720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7280" y="4876920"/>
                <a:ext cx="38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600200" y="52578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52680" y="5257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133720" y="563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743200" y="56386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76720" y="5638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735360" y="56386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71600" y="601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57400" y="60199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6095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-80640" y="-200160"/>
            <a:ext cx="2747880" cy="2110320"/>
            <a:chOff x="-80640" y="-200160"/>
            <a:chExt cx="2747880" cy="2110320"/>
          </a:xfrm>
        </p:grpSpPr>
        <p:sp>
          <p:nvSpPr>
            <p:cNvPr id="119" name=""/>
            <p:cNvSpPr/>
            <p:nvPr/>
          </p:nvSpPr>
          <p:spPr>
            <a:xfrm rot="413400">
              <a:off x="19080" y="-53640"/>
              <a:ext cx="2548080" cy="181764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0757000">
              <a:off x="255600" y="55872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247920" y="83736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8098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以看做是由正方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基本图案通过旋转而得到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画图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到的位置是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33520" y="1523880"/>
            <a:ext cx="8231040" cy="1557000"/>
            <a:chOff x="533520" y="1523880"/>
            <a:chExt cx="8231040" cy="1557000"/>
          </a:xfrm>
        </p:grpSpPr>
        <p:sp>
          <p:nvSpPr>
            <p:cNvPr id="124" name=""/>
            <p:cNvSpPr/>
            <p:nvPr/>
          </p:nvSpPr>
          <p:spPr>
            <a:xfrm>
              <a:off x="533520" y="1523880"/>
              <a:ext cx="7315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四边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C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四边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EFGH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都是边长为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正方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这个图案可以看做是哪个“基本图案”通过旋转得到的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请画出旋转中心和旋转角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经过旋转，点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分别移到什么位置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7618320" y="1752480"/>
              <a:ext cx="1146240" cy="121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80640" y="-200160"/>
            <a:ext cx="2747880" cy="2110320"/>
            <a:chOff x="-80640" y="-200160"/>
            <a:chExt cx="2747880" cy="2110320"/>
          </a:xfrm>
        </p:grpSpPr>
        <p:sp>
          <p:nvSpPr>
            <p:cNvPr id="127" name=""/>
            <p:cNvSpPr/>
            <p:nvPr/>
          </p:nvSpPr>
          <p:spPr>
            <a:xfrm rot="413400">
              <a:off x="19080" y="-53640"/>
              <a:ext cx="2548080" cy="181764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757000">
              <a:off x="255600" y="55872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3095640" y="45792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07320" y="2438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2438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80520" y="1676520"/>
            <a:ext cx="7999560" cy="3339720"/>
            <a:chOff x="380520" y="1676520"/>
            <a:chExt cx="7999560" cy="3339720"/>
          </a:xfrm>
        </p:grpSpPr>
        <p:sp>
          <p:nvSpPr>
            <p:cNvPr id="133" name=""/>
            <p:cNvSpPr/>
            <p:nvPr/>
          </p:nvSpPr>
          <p:spPr>
            <a:xfrm>
              <a:off x="5486400" y="3961080"/>
              <a:ext cx="1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72200" y="464796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10280" y="38847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72160" y="288072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29400" y="3732480"/>
              <a:ext cx="15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80520" y="1676520"/>
              <a:ext cx="7999560" cy="3018240"/>
              <a:chOff x="380520" y="1676520"/>
              <a:chExt cx="7999560" cy="3018240"/>
            </a:xfrm>
          </p:grpSpPr>
          <p:sp>
            <p:nvSpPr>
              <p:cNvPr id="139" name=""/>
              <p:cNvSpPr/>
              <p:nvPr/>
            </p:nvSpPr>
            <p:spPr>
              <a:xfrm rot="19020000">
                <a:off x="5942160" y="3657600"/>
                <a:ext cx="914400" cy="83772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16080000">
                <a:off x="5726520" y="3213360"/>
                <a:ext cx="9136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380520" y="1676520"/>
                <a:ext cx="7999560" cy="1191240"/>
                <a:chOff x="380520" y="1676520"/>
                <a:chExt cx="7999560" cy="1191240"/>
              </a:xfrm>
            </p:grpSpPr>
            <p:sp>
              <p:nvSpPr>
                <p:cNvPr id="142" name=""/>
                <p:cNvSpPr/>
                <p:nvPr/>
              </p:nvSpPr>
              <p:spPr>
                <a:xfrm flipV="1" rot="10800000">
                  <a:off x="380520" y="1676160"/>
                  <a:ext cx="79995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2.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如图，△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ABC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与△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ADE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都是等腰直角三角形，∠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和∠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AED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都  是直角，点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在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AB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上，如果△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ABC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经旋转后能与△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ADE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重合，那么旋转中心是点     ；旋转的度数是       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Arial"/>
                    </a:rPr>
                    <a:t>.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05520" y="2549160"/>
                  <a:ext cx="3808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618320" y="2549160"/>
                  <a:ext cx="53352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-80640" y="-200160"/>
            <a:ext cx="2747880" cy="2110320"/>
            <a:chOff x="-80640" y="-200160"/>
            <a:chExt cx="2747880" cy="2110320"/>
          </a:xfrm>
        </p:grpSpPr>
        <p:sp>
          <p:nvSpPr>
            <p:cNvPr id="146" name=""/>
            <p:cNvSpPr/>
            <p:nvPr/>
          </p:nvSpPr>
          <p:spPr>
            <a:xfrm rot="413400">
              <a:off x="19080" y="-53640"/>
              <a:ext cx="2548080" cy="181764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20757000">
              <a:off x="255600" y="55872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608280" y="837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 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边长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正方形，如图所示，让一个正方形的顶点与另一个正方形中心重合，不难知道重合部分的面积为，现把其中一个正方形固定不动，另一个正方形绕其中心旋转，问在旋转过程中，两个正方形重叠部分面积是否发生变化？说明理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962520"/>
            <a:ext cx="54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拨精讲：设任转一角度，如图中的虚线部分，要说明旋转后正方形重叠部分面积不变，只要说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△OEE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Arial"/>
              </a:rPr>
              <a:t>△ODD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那么只要说明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EF′≌△ODD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411480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 rot="10740000">
            <a:off x="6781320" y="4264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715000" y="3657600"/>
            <a:ext cx="2444760" cy="2207160"/>
            <a:chOff x="5715000" y="3657600"/>
            <a:chExt cx="2444760" cy="2207160"/>
          </a:xfrm>
        </p:grpSpPr>
        <p:grpSp>
          <p:nvGrpSpPr>
            <p:cNvPr id="154" name=""/>
            <p:cNvGrpSpPr/>
            <p:nvPr/>
          </p:nvGrpSpPr>
          <p:grpSpPr>
            <a:xfrm>
              <a:off x="5715000" y="3657600"/>
              <a:ext cx="2444760" cy="2207160"/>
              <a:chOff x="5715000" y="3657600"/>
              <a:chExt cx="2444760" cy="220716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5715000" y="3657600"/>
                <a:ext cx="2444760" cy="2207160"/>
                <a:chOff x="5715000" y="3657600"/>
                <a:chExt cx="2444760" cy="220716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5715000" y="3657600"/>
                  <a:ext cx="2444760" cy="2207160"/>
                  <a:chOff x="5715000" y="3657600"/>
                  <a:chExt cx="2444760" cy="2207160"/>
                </a:xfrm>
              </p:grpSpPr>
              <p:grpSp>
                <p:nvGrpSpPr>
                  <p:cNvPr id="157" name=""/>
                  <p:cNvGrpSpPr/>
                  <p:nvPr/>
                </p:nvGrpSpPr>
                <p:grpSpPr>
                  <a:xfrm>
                    <a:off x="6019920" y="3657600"/>
                    <a:ext cx="1830240" cy="2207160"/>
                    <a:chOff x="6019920" y="3657600"/>
                    <a:chExt cx="1830240" cy="2207160"/>
                  </a:xfrm>
                </p:grpSpPr>
                <p:grpSp>
                  <p:nvGrpSpPr>
                    <p:cNvPr id="158" name=""/>
                    <p:cNvGrpSpPr/>
                    <p:nvPr/>
                  </p:nvGrpSpPr>
                  <p:grpSpPr>
                    <a:xfrm>
                      <a:off x="6019920" y="3657600"/>
                      <a:ext cx="1830240" cy="2207160"/>
                      <a:chOff x="6019920" y="3657600"/>
                      <a:chExt cx="1830240" cy="2207160"/>
                    </a:xfrm>
                  </p:grpSpPr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6019920" y="3657600"/>
                        <a:ext cx="1830240" cy="1754280"/>
                        <a:chOff x="6019920" y="3657600"/>
                        <a:chExt cx="1830240" cy="175428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6019920" y="3657600"/>
                          <a:ext cx="1220760" cy="1144440"/>
                        </a:xfrm>
                        <a:prstGeom prst="rect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6629400" y="4267080"/>
                          <a:ext cx="1220760" cy="1144800"/>
                        </a:xfrm>
                        <a:prstGeom prst="rect">
                          <a:avLst/>
                        </a:prstGeom>
                        <a:solidFill>
                          <a:srgbClr val="bbe0e3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62" name=""/>
                      <p:cNvSpPr/>
                      <p:nvPr/>
                    </p:nvSpPr>
                    <p:spPr>
                      <a:xfrm rot="1740000">
                        <a:off x="6248160" y="4495680"/>
                        <a:ext cx="1220760" cy="1144800"/>
                      </a:xfrm>
                      <a:prstGeom prst="rect">
                        <a:avLst/>
                      </a:prstGeom>
                      <a:solidFill>
                        <a:srgbClr val="bbe0e3"/>
                      </a:solidFill>
                      <a:ln cap="rnd" w="9360">
                        <a:solidFill>
                          <a:srgbClr val="000000"/>
                        </a:solidFill>
                        <a:custDash>
                          <a:ds d="100000" sp="1000"/>
                        </a:custDash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6629400" y="4267080"/>
                        <a:ext cx="1440" cy="1144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6629400" y="5411880"/>
                      <a:ext cx="763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5" name=""/>
                  <p:cNvSpPr/>
                  <p:nvPr/>
                </p:nvSpPr>
                <p:spPr>
                  <a:xfrm>
                    <a:off x="5715000" y="4724280"/>
                    <a:ext cx="1522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7850160" y="5486400"/>
                    <a:ext cx="30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B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7316640" y="3886200"/>
                    <a:ext cx="1494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7316640" y="4419720"/>
                    <a:ext cx="567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'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6705720" y="4724280"/>
                    <a:ext cx="1778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095880" y="4876920"/>
                    <a:ext cx="50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E'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324480" y="4800600"/>
                    <a:ext cx="99216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7238880" y="4267080"/>
                    <a:ext cx="1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>
                  <a:off x="6553080" y="457200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¬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 rot="10980000">
                <a:off x="6477120" y="418896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¬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6445080" y="401796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1" dur="20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2T05:29:2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